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506-E7CC-4FE5-AE55-43A77E71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674-0B40-4A20-A695-DF938CF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299-25C9-4FBE-B43D-9BDFDFA3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353-915C-493D-B12A-645B6DCF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2D2-0653-498D-B83A-610DE3C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D3F-E945-4B78-AB0E-44B4A72E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4A2-55FB-4C9B-B033-E48E6656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52B-BE28-4535-BC57-E6B96AC1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017-2DDA-4E53-AD32-CB3CF96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B3E-144B-40C9-A10A-789B026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8FA-04F8-4670-B622-6B1C4856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8EE-0DF7-4AE5-A2EE-ADF5839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56B6-675E-42E5-BBEF-A57D1D19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Ty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igned up to become a Pokemon trai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haveing pokemon! Have Fun! 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119240" y="-1447920"/>
            <a:ext cx="11382480" cy="975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1119240" y="-1447920"/>
            <a:ext cx="11382480" cy="975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1119240" y="-1447920"/>
            <a:ext cx="11382480" cy="975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s-o-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27766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4444920"/>
            <a:ext cx="2133720" cy="241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57800" y="2647800"/>
            <a:ext cx="3276720" cy="421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880" y="2971800"/>
            <a:ext cx="214020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14479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257800" y="1447920"/>
            <a:ext cx="3276720" cy="1176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0" y="2133720"/>
            <a:ext cx="2120760" cy="86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54380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2200" y="2840040"/>
            <a:ext cx="722520" cy="633240"/>
          </a:xfrm>
          <a:custGeom>
            <a:avLst/>
            <a:gdLst/>
            <a:ahLst/>
            <a:rect l="l" t="t" r="r" b="b"/>
            <a:pathLst>
              <a:path w="2010" h="1762">
                <a:moveTo>
                  <a:pt x="1067" y="8384"/>
                </a:moveTo>
                <a:cubicBezTo>
                  <a:pt x="1067" y="8607"/>
                  <a:pt x="1103" y="8866"/>
                  <a:pt x="1042" y="9079"/>
                </a:cubicBezTo>
                <a:cubicBezTo>
                  <a:pt x="1030" y="9120"/>
                  <a:pt x="1029" y="9163"/>
                  <a:pt x="1017" y="9203"/>
                </a:cubicBezTo>
                <a:cubicBezTo>
                  <a:pt x="999" y="9263"/>
                  <a:pt x="969" y="9260"/>
                  <a:pt x="918" y="9277"/>
                </a:cubicBezTo>
                <a:cubicBezTo>
                  <a:pt x="910" y="9277"/>
                  <a:pt x="901" y="9277"/>
                  <a:pt x="893" y="9277"/>
                </a:cubicBezTo>
                <a:cubicBezTo>
                  <a:pt x="893" y="9203"/>
                  <a:pt x="893" y="9128"/>
                  <a:pt x="893" y="9054"/>
                </a:cubicBezTo>
                <a:cubicBezTo>
                  <a:pt x="938" y="9074"/>
                  <a:pt x="948" y="9054"/>
                  <a:pt x="992" y="9079"/>
                </a:cubicBezTo>
                <a:cubicBezTo>
                  <a:pt x="1057" y="9115"/>
                  <a:pt x="1112" y="9164"/>
                  <a:pt x="1191" y="9178"/>
                </a:cubicBezTo>
                <a:cubicBezTo>
                  <a:pt x="1240" y="9187"/>
                  <a:pt x="1273" y="9185"/>
                  <a:pt x="1315" y="9203"/>
                </a:cubicBezTo>
                <a:cubicBezTo>
                  <a:pt x="1345" y="9216"/>
                  <a:pt x="1344" y="9241"/>
                  <a:pt x="1364" y="9252"/>
                </a:cubicBezTo>
                <a:cubicBezTo>
                  <a:pt x="1405" y="9275"/>
                  <a:pt x="1445" y="9271"/>
                  <a:pt x="1488" y="9302"/>
                </a:cubicBezTo>
                <a:cubicBezTo>
                  <a:pt x="1537" y="9338"/>
                  <a:pt x="1536" y="9328"/>
                  <a:pt x="1588" y="9351"/>
                </a:cubicBezTo>
                <a:cubicBezTo>
                  <a:pt x="1613" y="9392"/>
                  <a:pt x="1628" y="9400"/>
                  <a:pt x="1662" y="9451"/>
                </a:cubicBezTo>
                <a:cubicBezTo>
                  <a:pt x="1682" y="9480"/>
                  <a:pt x="1681" y="9513"/>
                  <a:pt x="1687" y="9550"/>
                </a:cubicBezTo>
                <a:cubicBezTo>
                  <a:pt x="1692" y="9581"/>
                  <a:pt x="1687" y="9617"/>
                  <a:pt x="1687" y="9649"/>
                </a:cubicBezTo>
                <a:cubicBezTo>
                  <a:pt x="1709" y="9633"/>
                  <a:pt x="1750" y="9614"/>
                  <a:pt x="1761" y="9599"/>
                </a:cubicBezTo>
                <a:cubicBezTo>
                  <a:pt x="1784" y="9569"/>
                  <a:pt x="1762" y="9529"/>
                  <a:pt x="1786" y="9500"/>
                </a:cubicBezTo>
                <a:cubicBezTo>
                  <a:pt x="1826" y="9452"/>
                  <a:pt x="1891" y="9425"/>
                  <a:pt x="1935" y="9376"/>
                </a:cubicBezTo>
                <a:cubicBezTo>
                  <a:pt x="2002" y="9303"/>
                  <a:pt x="2072" y="9234"/>
                  <a:pt x="2133" y="9153"/>
                </a:cubicBezTo>
                <a:cubicBezTo>
                  <a:pt x="2160" y="9117"/>
                  <a:pt x="2214" y="9069"/>
                  <a:pt x="2232" y="9029"/>
                </a:cubicBezTo>
                <a:cubicBezTo>
                  <a:pt x="2257" y="8974"/>
                  <a:pt x="2283" y="8892"/>
                  <a:pt x="2307" y="8830"/>
                </a:cubicBezTo>
                <a:cubicBezTo>
                  <a:pt x="2339" y="8748"/>
                  <a:pt x="2416" y="8598"/>
                  <a:pt x="2456" y="8533"/>
                </a:cubicBezTo>
                <a:cubicBezTo>
                  <a:pt x="2496" y="8469"/>
                  <a:pt x="2537" y="8427"/>
                  <a:pt x="2580" y="8359"/>
                </a:cubicBezTo>
                <a:cubicBezTo>
                  <a:pt x="2612" y="8308"/>
                  <a:pt x="2610" y="8266"/>
                  <a:pt x="2629" y="8210"/>
                </a:cubicBezTo>
                <a:cubicBezTo>
                  <a:pt x="2651" y="8145"/>
                  <a:pt x="2644" y="8141"/>
                  <a:pt x="2704" y="8062"/>
                </a:cubicBezTo>
                <a:cubicBezTo>
                  <a:pt x="2736" y="8020"/>
                  <a:pt x="2773" y="8022"/>
                  <a:pt x="2803" y="7987"/>
                </a:cubicBezTo>
                <a:cubicBezTo>
                  <a:pt x="2817" y="7971"/>
                  <a:pt x="2841" y="7953"/>
                  <a:pt x="2853" y="7938"/>
                </a:cubicBezTo>
                <a:cubicBezTo>
                  <a:pt x="2875" y="7910"/>
                  <a:pt x="2872" y="7909"/>
                  <a:pt x="2902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10760" y="2616120"/>
            <a:ext cx="231480" cy="625680"/>
          </a:xfrm>
          <a:custGeom>
            <a:avLst/>
            <a:gdLst/>
            <a:ahLst/>
            <a:rect l="l" t="t" r="r" b="b"/>
            <a:pathLst>
              <a:path w="646" h="1737">
                <a:moveTo>
                  <a:pt x="24011" y="7342"/>
                </a:moveTo>
                <a:cubicBezTo>
                  <a:pt x="24043" y="7319"/>
                  <a:pt x="24054" y="7282"/>
                  <a:pt x="24085" y="7268"/>
                </a:cubicBezTo>
                <a:cubicBezTo>
                  <a:pt x="24129" y="7248"/>
                  <a:pt x="24194" y="7310"/>
                  <a:pt x="24209" y="7342"/>
                </a:cubicBezTo>
                <a:cubicBezTo>
                  <a:pt x="24223" y="7372"/>
                  <a:pt x="24252" y="7433"/>
                  <a:pt x="24259" y="7466"/>
                </a:cubicBezTo>
                <a:cubicBezTo>
                  <a:pt x="24274" y="7535"/>
                  <a:pt x="24279" y="7509"/>
                  <a:pt x="24284" y="7590"/>
                </a:cubicBezTo>
                <a:cubicBezTo>
                  <a:pt x="24288" y="7655"/>
                  <a:pt x="24291" y="7713"/>
                  <a:pt x="24259" y="7764"/>
                </a:cubicBezTo>
                <a:cubicBezTo>
                  <a:pt x="24245" y="7787"/>
                  <a:pt x="24217" y="7778"/>
                  <a:pt x="24185" y="7789"/>
                </a:cubicBezTo>
                <a:cubicBezTo>
                  <a:pt x="24143" y="7803"/>
                  <a:pt x="24106" y="7831"/>
                  <a:pt x="24061" y="7838"/>
                </a:cubicBezTo>
                <a:cubicBezTo>
                  <a:pt x="24007" y="7847"/>
                  <a:pt x="23942" y="7838"/>
                  <a:pt x="23887" y="7838"/>
                </a:cubicBezTo>
                <a:cubicBezTo>
                  <a:pt x="23887" y="7936"/>
                  <a:pt x="23885" y="8050"/>
                  <a:pt x="23912" y="8111"/>
                </a:cubicBezTo>
                <a:cubicBezTo>
                  <a:pt x="23927" y="8144"/>
                  <a:pt x="23952" y="8151"/>
                  <a:pt x="23961" y="8186"/>
                </a:cubicBezTo>
                <a:cubicBezTo>
                  <a:pt x="23976" y="8242"/>
                  <a:pt x="23965" y="8230"/>
                  <a:pt x="24011" y="8285"/>
                </a:cubicBezTo>
                <a:cubicBezTo>
                  <a:pt x="24055" y="8337"/>
                  <a:pt x="24095" y="8364"/>
                  <a:pt x="24135" y="8409"/>
                </a:cubicBezTo>
                <a:cubicBezTo>
                  <a:pt x="24158" y="8435"/>
                  <a:pt x="24201" y="8471"/>
                  <a:pt x="24209" y="8483"/>
                </a:cubicBezTo>
                <a:cubicBezTo>
                  <a:pt x="24221" y="8502"/>
                  <a:pt x="24245" y="8553"/>
                  <a:pt x="24234" y="8582"/>
                </a:cubicBezTo>
                <a:cubicBezTo>
                  <a:pt x="24219" y="8622"/>
                  <a:pt x="24182" y="8670"/>
                  <a:pt x="24160" y="8706"/>
                </a:cubicBezTo>
                <a:cubicBezTo>
                  <a:pt x="24138" y="8742"/>
                  <a:pt x="24107" y="8801"/>
                  <a:pt x="24085" y="8830"/>
                </a:cubicBezTo>
                <a:cubicBezTo>
                  <a:pt x="24053" y="8871"/>
                  <a:pt x="24001" y="8920"/>
                  <a:pt x="23961" y="8954"/>
                </a:cubicBezTo>
                <a:cubicBezTo>
                  <a:pt x="23933" y="8978"/>
                  <a:pt x="23922" y="8995"/>
                  <a:pt x="23887" y="9004"/>
                </a:cubicBezTo>
                <a:cubicBezTo>
                  <a:pt x="23831" y="9019"/>
                  <a:pt x="23781" y="8998"/>
                  <a:pt x="23738" y="8979"/>
                </a:cubicBezTo>
                <a:cubicBezTo>
                  <a:pt x="23738" y="8946"/>
                  <a:pt x="23730" y="8937"/>
                  <a:pt x="23688" y="8954"/>
                </a:cubicBezTo>
                <a:cubicBezTo>
                  <a:pt x="23667" y="8879"/>
                  <a:pt x="23695" y="8928"/>
                  <a:pt x="23639" y="8880"/>
                </a:cubicBezTo>
              </a:path>
              <a:path w="646" h="1737">
                <a:moveTo>
                  <a:pt x="24061" y="7392"/>
                </a:moveTo>
                <a:cubicBezTo>
                  <a:pt x="24003" y="7392"/>
                  <a:pt x="23945" y="7392"/>
                  <a:pt x="23887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2320"/>
            <a:ext cx="9090000" cy="6205680"/>
          </a:xfrm>
          <a:custGeom>
            <a:avLst/>
            <a:gdLst/>
            <a:ahLst/>
            <a:rect l="l" t="t" r="r" b="b"/>
            <a:pathLst>
              <a:path w="25252" h="17240">
                <a:moveTo>
                  <a:pt x="1637" y="6201"/>
                </a:moveTo>
                <a:cubicBezTo>
                  <a:pt x="1664" y="6151"/>
                  <a:pt x="1679" y="6169"/>
                  <a:pt x="1712" y="6102"/>
                </a:cubicBezTo>
                <a:cubicBezTo>
                  <a:pt x="1998" y="5511"/>
                  <a:pt x="2320" y="4976"/>
                  <a:pt x="2654" y="4415"/>
                </a:cubicBezTo>
                <a:cubicBezTo>
                  <a:pt x="2901" y="4001"/>
                  <a:pt x="3176" y="3608"/>
                  <a:pt x="3423" y="3200"/>
                </a:cubicBezTo>
                <a:cubicBezTo>
                  <a:pt x="3550" y="2990"/>
                  <a:pt x="3621" y="2784"/>
                  <a:pt x="3770" y="2580"/>
                </a:cubicBezTo>
                <a:cubicBezTo>
                  <a:pt x="3857" y="2461"/>
                  <a:pt x="4195" y="1962"/>
                  <a:pt x="4316" y="1910"/>
                </a:cubicBezTo>
                <a:cubicBezTo>
                  <a:pt x="4379" y="1883"/>
                  <a:pt x="4407" y="1817"/>
                  <a:pt x="4440" y="1811"/>
                </a:cubicBezTo>
                <a:cubicBezTo>
                  <a:pt x="5260" y="1662"/>
                  <a:pt x="6244" y="3018"/>
                  <a:pt x="6821" y="3349"/>
                </a:cubicBezTo>
                <a:cubicBezTo>
                  <a:pt x="7442" y="3706"/>
                  <a:pt x="8070" y="3621"/>
                  <a:pt x="8806" y="3621"/>
                </a:cubicBezTo>
                <a:cubicBezTo>
                  <a:pt x="11732" y="3621"/>
                  <a:pt x="14882" y="3944"/>
                  <a:pt x="17760" y="3497"/>
                </a:cubicBezTo>
                <a:cubicBezTo>
                  <a:pt x="18033" y="3455"/>
                  <a:pt x="18304" y="3386"/>
                  <a:pt x="18579" y="3349"/>
                </a:cubicBezTo>
                <a:cubicBezTo>
                  <a:pt x="19474" y="3228"/>
                  <a:pt x="20531" y="3183"/>
                  <a:pt x="21406" y="3349"/>
                </a:cubicBezTo>
                <a:cubicBezTo>
                  <a:pt x="21633" y="3392"/>
                  <a:pt x="21830" y="3452"/>
                  <a:pt x="22051" y="3522"/>
                </a:cubicBezTo>
                <a:cubicBezTo>
                  <a:pt x="22207" y="3572"/>
                  <a:pt x="22348" y="3599"/>
                  <a:pt x="22498" y="3671"/>
                </a:cubicBezTo>
                <a:cubicBezTo>
                  <a:pt x="22977" y="3901"/>
                  <a:pt x="23296" y="4169"/>
                  <a:pt x="23639" y="4564"/>
                </a:cubicBezTo>
                <a:cubicBezTo>
                  <a:pt x="23807" y="4757"/>
                  <a:pt x="23965" y="5020"/>
                  <a:pt x="24110" y="5234"/>
                </a:cubicBezTo>
                <a:cubicBezTo>
                  <a:pt x="24269" y="5468"/>
                  <a:pt x="24417" y="5683"/>
                  <a:pt x="24557" y="5928"/>
                </a:cubicBezTo>
                <a:cubicBezTo>
                  <a:pt x="24902" y="6533"/>
                  <a:pt x="25095" y="7176"/>
                  <a:pt x="25177" y="7863"/>
                </a:cubicBezTo>
                <a:cubicBezTo>
                  <a:pt x="25421" y="9910"/>
                  <a:pt x="25341" y="12144"/>
                  <a:pt x="24904" y="14139"/>
                </a:cubicBezTo>
                <a:cubicBezTo>
                  <a:pt x="24693" y="15103"/>
                  <a:pt x="24545" y="16108"/>
                  <a:pt x="24209" y="17041"/>
                </a:cubicBezTo>
                <a:cubicBezTo>
                  <a:pt x="23492" y="19034"/>
                  <a:pt x="23662" y="18783"/>
                  <a:pt x="21282" y="19050"/>
                </a:cubicBezTo>
                <a:cubicBezTo>
                  <a:pt x="20755" y="19109"/>
                  <a:pt x="20144" y="19026"/>
                  <a:pt x="19621" y="18976"/>
                </a:cubicBezTo>
                <a:cubicBezTo>
                  <a:pt x="19269" y="18942"/>
                  <a:pt x="18926" y="18849"/>
                  <a:pt x="18579" y="18802"/>
                </a:cubicBezTo>
                <a:cubicBezTo>
                  <a:pt x="18172" y="18747"/>
                  <a:pt x="17769" y="18684"/>
                  <a:pt x="17363" y="18628"/>
                </a:cubicBezTo>
                <a:cubicBezTo>
                  <a:pt x="16841" y="18556"/>
                  <a:pt x="16301" y="18494"/>
                  <a:pt x="15776" y="18430"/>
                </a:cubicBezTo>
                <a:cubicBezTo>
                  <a:pt x="15158" y="18355"/>
                  <a:pt x="14596" y="18265"/>
                  <a:pt x="13990" y="18132"/>
                </a:cubicBezTo>
                <a:cubicBezTo>
                  <a:pt x="13534" y="18032"/>
                  <a:pt x="13091" y="17939"/>
                  <a:pt x="12626" y="17859"/>
                </a:cubicBezTo>
                <a:cubicBezTo>
                  <a:pt x="12138" y="17775"/>
                  <a:pt x="11652" y="17745"/>
                  <a:pt x="11162" y="17686"/>
                </a:cubicBezTo>
                <a:cubicBezTo>
                  <a:pt x="10830" y="17646"/>
                  <a:pt x="10505" y="17610"/>
                  <a:pt x="10170" y="17587"/>
                </a:cubicBezTo>
                <a:cubicBezTo>
                  <a:pt x="8042" y="17443"/>
                  <a:pt x="5903" y="17651"/>
                  <a:pt x="3795" y="17239"/>
                </a:cubicBezTo>
                <a:cubicBezTo>
                  <a:pt x="3043" y="17092"/>
                  <a:pt x="2222" y="16845"/>
                  <a:pt x="1588" y="16421"/>
                </a:cubicBezTo>
                <a:cubicBezTo>
                  <a:pt x="1288" y="16220"/>
                  <a:pt x="1004" y="15926"/>
                  <a:pt x="769" y="15652"/>
                </a:cubicBezTo>
                <a:cubicBezTo>
                  <a:pt x="180" y="14965"/>
                  <a:pt x="166" y="14384"/>
                  <a:pt x="74" y="13519"/>
                </a:cubicBezTo>
                <a:cubicBezTo>
                  <a:pt x="-7" y="12761"/>
                  <a:pt x="0" y="12005"/>
                  <a:pt x="0" y="11237"/>
                </a:cubicBezTo>
                <a:cubicBezTo>
                  <a:pt x="0" y="9940"/>
                  <a:pt x="-92" y="8630"/>
                  <a:pt x="496" y="7441"/>
                </a:cubicBezTo>
                <a:cubicBezTo>
                  <a:pt x="688" y="7052"/>
                  <a:pt x="882" y="6808"/>
                  <a:pt x="1166" y="6499"/>
                </a:cubicBezTo>
                <a:cubicBezTo>
                  <a:pt x="1346" y="6303"/>
                  <a:pt x="1588" y="5998"/>
                  <a:pt x="1811" y="5854"/>
                </a:cubicBezTo>
                <a:cubicBezTo>
                  <a:pt x="1980" y="5745"/>
                  <a:pt x="2208" y="5754"/>
                  <a:pt x="2332" y="5680"/>
                </a:cubicBezTo>
                <a:cubicBezTo>
                  <a:pt x="2351" y="5669"/>
                  <a:pt x="2347" y="5624"/>
                  <a:pt x="2381" y="5606"/>
                </a:cubicBezTo>
                <a:cubicBezTo>
                  <a:pt x="2389" y="5606"/>
                  <a:pt x="2398" y="5606"/>
                  <a:pt x="2406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Of Pokem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Ty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chilly October night. The world was about to ch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0" y="3652920"/>
            <a:ext cx="4465800" cy="1527120"/>
          </a:xfrm>
          <a:custGeom>
            <a:avLst/>
            <a:gdLst/>
            <a:ahLst/>
            <a:rect l="l" t="t" r="r" b="b"/>
            <a:pathLst>
              <a:path w="12404" h="4243">
                <a:moveTo>
                  <a:pt x="10071" y="12005"/>
                </a:moveTo>
                <a:cubicBezTo>
                  <a:pt x="10135" y="11996"/>
                  <a:pt x="10193" y="11982"/>
                  <a:pt x="10269" y="11981"/>
                </a:cubicBezTo>
                <a:cubicBezTo>
                  <a:pt x="10416" y="11979"/>
                  <a:pt x="10575" y="11960"/>
                  <a:pt x="10716" y="12005"/>
                </a:cubicBezTo>
                <a:cubicBezTo>
                  <a:pt x="11036" y="12106"/>
                  <a:pt x="11351" y="12244"/>
                  <a:pt x="11658" y="12378"/>
                </a:cubicBezTo>
                <a:cubicBezTo>
                  <a:pt x="12019" y="12536"/>
                  <a:pt x="12401" y="12666"/>
                  <a:pt x="12750" y="12849"/>
                </a:cubicBezTo>
                <a:cubicBezTo>
                  <a:pt x="12928" y="12942"/>
                  <a:pt x="13222" y="13081"/>
                  <a:pt x="13320" y="13271"/>
                </a:cubicBezTo>
                <a:cubicBezTo>
                  <a:pt x="13365" y="13359"/>
                  <a:pt x="13339" y="13339"/>
                  <a:pt x="13295" y="13419"/>
                </a:cubicBezTo>
                <a:cubicBezTo>
                  <a:pt x="13175" y="13639"/>
                  <a:pt x="12979" y="13762"/>
                  <a:pt x="12774" y="13891"/>
                </a:cubicBezTo>
                <a:cubicBezTo>
                  <a:pt x="12448" y="14097"/>
                  <a:pt x="12090" y="14232"/>
                  <a:pt x="11708" y="14288"/>
                </a:cubicBezTo>
                <a:cubicBezTo>
                  <a:pt x="11386" y="14335"/>
                  <a:pt x="10990" y="14348"/>
                  <a:pt x="10666" y="14312"/>
                </a:cubicBezTo>
                <a:cubicBezTo>
                  <a:pt x="10514" y="14295"/>
                  <a:pt x="10170" y="14253"/>
                  <a:pt x="10046" y="14139"/>
                </a:cubicBezTo>
                <a:cubicBezTo>
                  <a:pt x="10000" y="14097"/>
                  <a:pt x="10013" y="14087"/>
                  <a:pt x="9996" y="14039"/>
                </a:cubicBezTo>
                <a:cubicBezTo>
                  <a:pt x="9963" y="13948"/>
                  <a:pt x="9962" y="13841"/>
                  <a:pt x="9971" y="13742"/>
                </a:cubicBezTo>
                <a:cubicBezTo>
                  <a:pt x="9992" y="13523"/>
                  <a:pt x="10141" y="13328"/>
                  <a:pt x="10294" y="13171"/>
                </a:cubicBezTo>
                <a:cubicBezTo>
                  <a:pt x="10467" y="12994"/>
                  <a:pt x="10631" y="12795"/>
                  <a:pt x="10815" y="12626"/>
                </a:cubicBezTo>
                <a:cubicBezTo>
                  <a:pt x="10957" y="12495"/>
                  <a:pt x="11091" y="12364"/>
                  <a:pt x="11237" y="12254"/>
                </a:cubicBezTo>
                <a:cubicBezTo>
                  <a:pt x="11300" y="12207"/>
                  <a:pt x="11370" y="12176"/>
                  <a:pt x="11435" y="12154"/>
                </a:cubicBezTo>
                <a:cubicBezTo>
                  <a:pt x="11472" y="12141"/>
                  <a:pt x="11493" y="12135"/>
                  <a:pt x="11534" y="12129"/>
                </a:cubicBezTo>
                <a:cubicBezTo>
                  <a:pt x="11596" y="12121"/>
                  <a:pt x="11825" y="12157"/>
                  <a:pt x="11832" y="12154"/>
                </a:cubicBezTo>
                <a:cubicBezTo>
                  <a:pt x="11862" y="12140"/>
                  <a:pt x="11822" y="12137"/>
                  <a:pt x="11832" y="12105"/>
                </a:cubicBezTo>
                <a:cubicBezTo>
                  <a:pt x="11839" y="12081"/>
                  <a:pt x="11821" y="12102"/>
                  <a:pt x="11832" y="12080"/>
                </a:cubicBezTo>
              </a:path>
              <a:path w="12404" h="4243">
                <a:moveTo>
                  <a:pt x="20811" y="10666"/>
                </a:moveTo>
                <a:cubicBezTo>
                  <a:pt x="20798" y="10656"/>
                  <a:pt x="20742" y="10595"/>
                  <a:pt x="20737" y="10592"/>
                </a:cubicBezTo>
                <a:cubicBezTo>
                  <a:pt x="20648" y="10537"/>
                  <a:pt x="20554" y="10491"/>
                  <a:pt x="20464" y="10443"/>
                </a:cubicBezTo>
                <a:cubicBezTo>
                  <a:pt x="20369" y="10392"/>
                  <a:pt x="20263" y="10366"/>
                  <a:pt x="20166" y="10319"/>
                </a:cubicBezTo>
                <a:cubicBezTo>
                  <a:pt x="20009" y="10242"/>
                  <a:pt x="19824" y="10169"/>
                  <a:pt x="19645" y="10145"/>
                </a:cubicBezTo>
                <a:cubicBezTo>
                  <a:pt x="19474" y="10122"/>
                  <a:pt x="19289" y="10135"/>
                  <a:pt x="19149" y="10195"/>
                </a:cubicBezTo>
                <a:cubicBezTo>
                  <a:pt x="19042" y="10241"/>
                  <a:pt x="18957" y="10281"/>
                  <a:pt x="18852" y="10319"/>
                </a:cubicBezTo>
                <a:cubicBezTo>
                  <a:pt x="18712" y="10370"/>
                  <a:pt x="18641" y="10422"/>
                  <a:pt x="18529" y="10517"/>
                </a:cubicBezTo>
                <a:cubicBezTo>
                  <a:pt x="18359" y="10660"/>
                  <a:pt x="18192" y="10809"/>
                  <a:pt x="18058" y="10988"/>
                </a:cubicBezTo>
                <a:cubicBezTo>
                  <a:pt x="17891" y="11211"/>
                  <a:pt x="17775" y="11471"/>
                  <a:pt x="17636" y="11708"/>
                </a:cubicBezTo>
                <a:cubicBezTo>
                  <a:pt x="17528" y="11891"/>
                  <a:pt x="17360" y="12129"/>
                  <a:pt x="17289" y="12328"/>
                </a:cubicBezTo>
                <a:cubicBezTo>
                  <a:pt x="17229" y="12496"/>
                  <a:pt x="17167" y="12727"/>
                  <a:pt x="17140" y="12898"/>
                </a:cubicBezTo>
                <a:cubicBezTo>
                  <a:pt x="17110" y="13092"/>
                  <a:pt x="17095" y="13296"/>
                  <a:pt x="17090" y="13494"/>
                </a:cubicBezTo>
                <a:cubicBezTo>
                  <a:pt x="17086" y="13634"/>
                  <a:pt x="17077" y="13784"/>
                  <a:pt x="17115" y="13915"/>
                </a:cubicBezTo>
                <a:cubicBezTo>
                  <a:pt x="17142" y="14010"/>
                  <a:pt x="17166" y="14113"/>
                  <a:pt x="17239" y="14188"/>
                </a:cubicBezTo>
                <a:cubicBezTo>
                  <a:pt x="17301" y="14251"/>
                  <a:pt x="17451" y="14338"/>
                  <a:pt x="17537" y="14362"/>
                </a:cubicBezTo>
                <a:cubicBezTo>
                  <a:pt x="17681" y="14403"/>
                  <a:pt x="17834" y="14387"/>
                  <a:pt x="17983" y="14387"/>
                </a:cubicBezTo>
                <a:cubicBezTo>
                  <a:pt x="18563" y="14387"/>
                  <a:pt x="19472" y="14572"/>
                  <a:pt x="20017" y="14337"/>
                </a:cubicBezTo>
                <a:cubicBezTo>
                  <a:pt x="20199" y="14259"/>
                  <a:pt x="20447" y="14172"/>
                  <a:pt x="20613" y="14064"/>
                </a:cubicBezTo>
                <a:cubicBezTo>
                  <a:pt x="20762" y="13967"/>
                  <a:pt x="20904" y="13837"/>
                  <a:pt x="21034" y="13717"/>
                </a:cubicBezTo>
                <a:cubicBezTo>
                  <a:pt x="21177" y="13585"/>
                  <a:pt x="21340" y="13420"/>
                  <a:pt x="21456" y="13271"/>
                </a:cubicBezTo>
                <a:cubicBezTo>
                  <a:pt x="21567" y="13128"/>
                  <a:pt x="21678" y="12979"/>
                  <a:pt x="21779" y="12824"/>
                </a:cubicBezTo>
                <a:cubicBezTo>
                  <a:pt x="21882" y="12667"/>
                  <a:pt x="21978" y="12513"/>
                  <a:pt x="22076" y="12353"/>
                </a:cubicBezTo>
                <a:cubicBezTo>
                  <a:pt x="22181" y="12182"/>
                  <a:pt x="22266" y="12049"/>
                  <a:pt x="22324" y="11857"/>
                </a:cubicBezTo>
                <a:cubicBezTo>
                  <a:pt x="22355" y="11756"/>
                  <a:pt x="22368" y="11722"/>
                  <a:pt x="22374" y="11609"/>
                </a:cubicBezTo>
                <a:cubicBezTo>
                  <a:pt x="22379" y="11507"/>
                  <a:pt x="22374" y="11489"/>
                  <a:pt x="22324" y="11435"/>
                </a:cubicBezTo>
                <a:cubicBezTo>
                  <a:pt x="22307" y="11416"/>
                  <a:pt x="22260" y="11375"/>
                  <a:pt x="22225" y="11361"/>
                </a:cubicBezTo>
                <a:cubicBezTo>
                  <a:pt x="22147" y="11331"/>
                  <a:pt x="22058" y="11354"/>
                  <a:pt x="21977" y="11336"/>
                </a:cubicBezTo>
                <a:cubicBezTo>
                  <a:pt x="21830" y="11303"/>
                  <a:pt x="21641" y="11267"/>
                  <a:pt x="21506" y="11212"/>
                </a:cubicBezTo>
                <a:cubicBezTo>
                  <a:pt x="21456" y="11192"/>
                  <a:pt x="21407" y="11158"/>
                  <a:pt x="21357" y="11137"/>
                </a:cubicBezTo>
                <a:cubicBezTo>
                  <a:pt x="21291" y="11109"/>
                  <a:pt x="21253" y="11090"/>
                  <a:pt x="21183" y="11063"/>
                </a:cubicBezTo>
                <a:cubicBezTo>
                  <a:pt x="21137" y="11045"/>
                  <a:pt x="21080" y="11030"/>
                  <a:pt x="21034" y="11013"/>
                </a:cubicBezTo>
                <a:cubicBezTo>
                  <a:pt x="21000" y="11000"/>
                  <a:pt x="20940" y="10981"/>
                  <a:pt x="20910" y="10964"/>
                </a:cubicBezTo>
                <a:cubicBezTo>
                  <a:pt x="20897" y="10957"/>
                  <a:pt x="20858" y="10905"/>
                  <a:pt x="20836" y="10889"/>
                </a:cubicBezTo>
                <a:cubicBezTo>
                  <a:pt x="20811" y="10871"/>
                  <a:pt x="20779" y="10855"/>
                  <a:pt x="20762" y="10840"/>
                </a:cubicBezTo>
                <a:cubicBezTo>
                  <a:pt x="20738" y="10819"/>
                  <a:pt x="20710" y="10763"/>
                  <a:pt x="20687" y="10740"/>
                </a:cubicBezTo>
                <a:cubicBezTo>
                  <a:pt x="20664" y="10717"/>
                  <a:pt x="20657" y="10721"/>
                  <a:pt x="20638" y="10691"/>
                </a:cubicBezTo>
                <a:cubicBezTo>
                  <a:pt x="20634" y="10685"/>
                  <a:pt x="20623" y="10630"/>
                  <a:pt x="20613" y="10616"/>
                </a:cubicBezTo>
                <a:cubicBezTo>
                  <a:pt x="20599" y="10597"/>
                  <a:pt x="20574" y="10582"/>
                  <a:pt x="20563" y="10567"/>
                </a:cubicBezTo>
                <a:cubicBezTo>
                  <a:pt x="20538" y="10567"/>
                  <a:pt x="20530" y="10567"/>
                  <a:pt x="20538" y="10542"/>
                </a:cubicBezTo>
              </a:path>
              <a:path w="12404" h="4243">
                <a:moveTo>
                  <a:pt x="17587" y="12254"/>
                </a:moveTo>
                <a:cubicBezTo>
                  <a:pt x="17741" y="12254"/>
                  <a:pt x="17860" y="12271"/>
                  <a:pt x="18008" y="12303"/>
                </a:cubicBezTo>
                <a:cubicBezTo>
                  <a:pt x="18124" y="12329"/>
                  <a:pt x="18216" y="12363"/>
                  <a:pt x="18331" y="12402"/>
                </a:cubicBezTo>
                <a:cubicBezTo>
                  <a:pt x="18464" y="12447"/>
                  <a:pt x="18608" y="12494"/>
                  <a:pt x="18728" y="12551"/>
                </a:cubicBezTo>
                <a:cubicBezTo>
                  <a:pt x="18831" y="12600"/>
                  <a:pt x="18888" y="12621"/>
                  <a:pt x="19000" y="12626"/>
                </a:cubicBezTo>
                <a:cubicBezTo>
                  <a:pt x="19165" y="12633"/>
                  <a:pt x="19334" y="12643"/>
                  <a:pt x="19496" y="12650"/>
                </a:cubicBezTo>
                <a:cubicBezTo>
                  <a:pt x="19630" y="12656"/>
                  <a:pt x="19761" y="12667"/>
                  <a:pt x="19893" y="12675"/>
                </a:cubicBezTo>
                <a:cubicBezTo>
                  <a:pt x="19993" y="12681"/>
                  <a:pt x="20096" y="12694"/>
                  <a:pt x="20191" y="12700"/>
                </a:cubicBezTo>
                <a:cubicBezTo>
                  <a:pt x="20492" y="12719"/>
                  <a:pt x="20882" y="12629"/>
                  <a:pt x="21158" y="12725"/>
                </a:cubicBezTo>
                <a:cubicBezTo>
                  <a:pt x="21190" y="12736"/>
                  <a:pt x="21245" y="12770"/>
                  <a:pt x="21258" y="12774"/>
                </a:cubicBezTo>
                <a:cubicBezTo>
                  <a:pt x="21305" y="12789"/>
                  <a:pt x="21339" y="12781"/>
                  <a:pt x="21382" y="12799"/>
                </a:cubicBezTo>
                <a:cubicBezTo>
                  <a:pt x="21423" y="12817"/>
                  <a:pt x="21465" y="12851"/>
                  <a:pt x="21506" y="12874"/>
                </a:cubicBezTo>
                <a:cubicBezTo>
                  <a:pt x="21543" y="12894"/>
                  <a:pt x="21586" y="12928"/>
                  <a:pt x="21630" y="12948"/>
                </a:cubicBezTo>
                <a:cubicBezTo>
                  <a:pt x="21669" y="12965"/>
                  <a:pt x="21714" y="12984"/>
                  <a:pt x="21754" y="12998"/>
                </a:cubicBezTo>
                <a:cubicBezTo>
                  <a:pt x="21785" y="13009"/>
                  <a:pt x="21823" y="13009"/>
                  <a:pt x="21853" y="13022"/>
                </a:cubicBezTo>
                <a:cubicBezTo>
                  <a:pt x="21886" y="13036"/>
                  <a:pt x="21978" y="13056"/>
                  <a:pt x="22002" y="13072"/>
                </a:cubicBezTo>
                <a:cubicBezTo>
                  <a:pt x="22006" y="13075"/>
                  <a:pt x="22023" y="13120"/>
                  <a:pt x="22027" y="13122"/>
                </a:cubicBezTo>
                <a:cubicBezTo>
                  <a:pt x="21979" y="13097"/>
                  <a:pt x="21986" y="13107"/>
                  <a:pt x="21927" y="13072"/>
                </a:cubicBezTo>
                <a:cubicBezTo>
                  <a:pt x="21854" y="13028"/>
                  <a:pt x="21745" y="12962"/>
                  <a:pt x="21654" y="12923"/>
                </a:cubicBezTo>
                <a:cubicBezTo>
                  <a:pt x="21531" y="12870"/>
                  <a:pt x="21383" y="12786"/>
                  <a:pt x="21258" y="12750"/>
                </a:cubicBezTo>
                <a:cubicBezTo>
                  <a:pt x="21151" y="12719"/>
                  <a:pt x="21055" y="12693"/>
                  <a:pt x="20960" y="12650"/>
                </a:cubicBezTo>
                <a:cubicBezTo>
                  <a:pt x="20840" y="12595"/>
                  <a:pt x="20790" y="12557"/>
                  <a:pt x="20662" y="12526"/>
                </a:cubicBezTo>
                <a:cubicBezTo>
                  <a:pt x="20579" y="12506"/>
                  <a:pt x="20497" y="12494"/>
                  <a:pt x="20414" y="12477"/>
                </a:cubicBezTo>
                <a:cubicBezTo>
                  <a:pt x="20336" y="12461"/>
                  <a:pt x="20291" y="12423"/>
                  <a:pt x="20216" y="12402"/>
                </a:cubicBezTo>
                <a:cubicBezTo>
                  <a:pt x="20122" y="12376"/>
                  <a:pt x="20016" y="12355"/>
                  <a:pt x="19918" y="12328"/>
                </a:cubicBezTo>
                <a:cubicBezTo>
                  <a:pt x="19848" y="12309"/>
                  <a:pt x="19792" y="12315"/>
                  <a:pt x="19720" y="12303"/>
                </a:cubicBezTo>
                <a:cubicBezTo>
                  <a:pt x="19650" y="12292"/>
                  <a:pt x="19596" y="12280"/>
                  <a:pt x="19521" y="12278"/>
                </a:cubicBezTo>
                <a:cubicBezTo>
                  <a:pt x="19105" y="12269"/>
                  <a:pt x="18693" y="12254"/>
                  <a:pt x="18281" y="12254"/>
                </a:cubicBezTo>
                <a:cubicBezTo>
                  <a:pt x="18164" y="12254"/>
                  <a:pt x="18049" y="12244"/>
                  <a:pt x="17934" y="12229"/>
                </a:cubicBezTo>
                <a:cubicBezTo>
                  <a:pt x="17811" y="12213"/>
                  <a:pt x="17687" y="12195"/>
                  <a:pt x="17562" y="12179"/>
                </a:cubicBezTo>
                <a:cubicBezTo>
                  <a:pt x="17426" y="12161"/>
                  <a:pt x="17297" y="12134"/>
                  <a:pt x="17165" y="12105"/>
                </a:cubicBezTo>
                <a:cubicBezTo>
                  <a:pt x="16983" y="12065"/>
                  <a:pt x="16798" y="12022"/>
                  <a:pt x="16619" y="11981"/>
                </a:cubicBezTo>
                <a:cubicBezTo>
                  <a:pt x="16538" y="11962"/>
                  <a:pt x="16453" y="11941"/>
                  <a:pt x="16371" y="11931"/>
                </a:cubicBezTo>
                <a:cubicBezTo>
                  <a:pt x="16346" y="11931"/>
                  <a:pt x="16338" y="11931"/>
                  <a:pt x="16321" y="11931"/>
                </a:cubicBezTo>
              </a:path>
              <a:path w="12404" h="4243">
                <a:moveTo>
                  <a:pt x="20191" y="12378"/>
                </a:moveTo>
                <a:cubicBezTo>
                  <a:pt x="20175" y="12362"/>
                  <a:pt x="20141" y="12337"/>
                  <a:pt x="20117" y="12303"/>
                </a:cubicBezTo>
                <a:cubicBezTo>
                  <a:pt x="20079" y="12250"/>
                  <a:pt x="20055" y="12242"/>
                  <a:pt x="19993" y="12204"/>
                </a:cubicBezTo>
                <a:cubicBezTo>
                  <a:pt x="19927" y="12164"/>
                  <a:pt x="19863" y="12117"/>
                  <a:pt x="19794" y="12080"/>
                </a:cubicBezTo>
                <a:cubicBezTo>
                  <a:pt x="19751" y="12057"/>
                  <a:pt x="19721" y="12025"/>
                  <a:pt x="19670" y="12005"/>
                </a:cubicBezTo>
                <a:cubicBezTo>
                  <a:pt x="19617" y="11985"/>
                  <a:pt x="19553" y="11965"/>
                  <a:pt x="19496" y="11956"/>
                </a:cubicBezTo>
                <a:cubicBezTo>
                  <a:pt x="19434" y="11946"/>
                  <a:pt x="19407" y="11938"/>
                  <a:pt x="19348" y="11956"/>
                </a:cubicBezTo>
                <a:cubicBezTo>
                  <a:pt x="19280" y="11977"/>
                  <a:pt x="19261" y="12015"/>
                  <a:pt x="19199" y="12055"/>
                </a:cubicBezTo>
                <a:cubicBezTo>
                  <a:pt x="19146" y="12088"/>
                  <a:pt x="19145" y="12077"/>
                  <a:pt x="19100" y="12129"/>
                </a:cubicBezTo>
                <a:cubicBezTo>
                  <a:pt x="19075" y="12157"/>
                  <a:pt x="19050" y="12216"/>
                  <a:pt x="19025" y="12254"/>
                </a:cubicBezTo>
                <a:cubicBezTo>
                  <a:pt x="18975" y="12330"/>
                  <a:pt x="18959" y="12369"/>
                  <a:pt x="18926" y="12452"/>
                </a:cubicBezTo>
                <a:cubicBezTo>
                  <a:pt x="18906" y="12502"/>
                  <a:pt x="18864" y="12576"/>
                  <a:pt x="18852" y="12626"/>
                </a:cubicBezTo>
                <a:cubicBezTo>
                  <a:pt x="18833" y="12704"/>
                  <a:pt x="18853" y="12832"/>
                  <a:pt x="18876" y="12874"/>
                </a:cubicBezTo>
                <a:cubicBezTo>
                  <a:pt x="18904" y="12926"/>
                  <a:pt x="18917" y="12940"/>
                  <a:pt x="18976" y="12973"/>
                </a:cubicBezTo>
                <a:cubicBezTo>
                  <a:pt x="19023" y="13000"/>
                  <a:pt x="19074" y="13003"/>
                  <a:pt x="19124" y="13022"/>
                </a:cubicBezTo>
                <a:cubicBezTo>
                  <a:pt x="19188" y="13046"/>
                  <a:pt x="19229" y="13047"/>
                  <a:pt x="19298" y="13047"/>
                </a:cubicBezTo>
                <a:cubicBezTo>
                  <a:pt x="19465" y="13047"/>
                  <a:pt x="19836" y="13106"/>
                  <a:pt x="19943" y="13022"/>
                </a:cubicBezTo>
                <a:cubicBezTo>
                  <a:pt x="19963" y="13006"/>
                  <a:pt x="19966" y="12985"/>
                  <a:pt x="19968" y="12948"/>
                </a:cubicBezTo>
                <a:cubicBezTo>
                  <a:pt x="19970" y="12906"/>
                  <a:pt x="19988" y="12880"/>
                  <a:pt x="19993" y="12849"/>
                </a:cubicBezTo>
                <a:cubicBezTo>
                  <a:pt x="20035" y="12601"/>
                  <a:pt x="19993" y="12307"/>
                  <a:pt x="19993" y="12055"/>
                </a:cubicBezTo>
                <a:cubicBezTo>
                  <a:pt x="19945" y="12048"/>
                  <a:pt x="19950" y="12049"/>
                  <a:pt x="19918" y="12030"/>
                </a:cubicBezTo>
              </a:path>
              <a:path w="12404" h="4243">
                <a:moveTo>
                  <a:pt x="19546" y="12402"/>
                </a:moveTo>
                <a:cubicBezTo>
                  <a:pt x="19489" y="12402"/>
                  <a:pt x="19468" y="12412"/>
                  <a:pt x="19422" y="12427"/>
                </a:cubicBezTo>
                <a:cubicBezTo>
                  <a:pt x="19385" y="12439"/>
                  <a:pt x="19375" y="12449"/>
                  <a:pt x="19348" y="12452"/>
                </a:cubicBezTo>
                <a:cubicBezTo>
                  <a:pt x="19326" y="12455"/>
                  <a:pt x="19299" y="12507"/>
                  <a:pt x="19298" y="12526"/>
                </a:cubicBezTo>
                <a:cubicBezTo>
                  <a:pt x="19292" y="12600"/>
                  <a:pt x="19298" y="12676"/>
                  <a:pt x="19298" y="12750"/>
                </a:cubicBezTo>
                <a:cubicBezTo>
                  <a:pt x="19343" y="12750"/>
                  <a:pt x="19357" y="12770"/>
                  <a:pt x="19397" y="12774"/>
                </a:cubicBezTo>
                <a:cubicBezTo>
                  <a:pt x="19405" y="12774"/>
                  <a:pt x="19414" y="12774"/>
                  <a:pt x="19422" y="12774"/>
                </a:cubicBezTo>
                <a:cubicBezTo>
                  <a:pt x="19422" y="12723"/>
                  <a:pt x="19437" y="12721"/>
                  <a:pt x="19447" y="12700"/>
                </a:cubicBezTo>
                <a:cubicBezTo>
                  <a:pt x="19458" y="12678"/>
                  <a:pt x="19469" y="12633"/>
                  <a:pt x="19472" y="12626"/>
                </a:cubicBezTo>
                <a:cubicBezTo>
                  <a:pt x="19496" y="12579"/>
                  <a:pt x="19476" y="12387"/>
                  <a:pt x="19447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changed into Pokemon. The first Pokemon on was Arcisust then all  on other Pokeman on were m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36232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2057400" cy="1965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3108240" cy="275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0680" y="3348000"/>
            <a:ext cx="6662520" cy="2502000"/>
          </a:xfrm>
          <a:custGeom>
            <a:avLst/>
            <a:gdLst/>
            <a:ahLst/>
            <a:rect l="l" t="t" r="r" b="b"/>
            <a:pathLst>
              <a:path w="18506" h="6946">
                <a:moveTo>
                  <a:pt x="7293" y="11559"/>
                </a:moveTo>
                <a:cubicBezTo>
                  <a:pt x="7311" y="11521"/>
                  <a:pt x="7317" y="11501"/>
                  <a:pt x="7342" y="11460"/>
                </a:cubicBezTo>
                <a:cubicBezTo>
                  <a:pt x="7390" y="11381"/>
                  <a:pt x="7423" y="11313"/>
                  <a:pt x="7466" y="11237"/>
                </a:cubicBezTo>
                <a:cubicBezTo>
                  <a:pt x="7546" y="11097"/>
                  <a:pt x="7627" y="10987"/>
                  <a:pt x="7739" y="10864"/>
                </a:cubicBezTo>
                <a:cubicBezTo>
                  <a:pt x="7829" y="10766"/>
                  <a:pt x="7927" y="10610"/>
                  <a:pt x="8062" y="10567"/>
                </a:cubicBezTo>
                <a:cubicBezTo>
                  <a:pt x="8099" y="10555"/>
                  <a:pt x="8150" y="10581"/>
                  <a:pt x="8186" y="10567"/>
                </a:cubicBezTo>
                <a:cubicBezTo>
                  <a:pt x="8186" y="10767"/>
                  <a:pt x="8166" y="10939"/>
                  <a:pt x="8111" y="11112"/>
                </a:cubicBezTo>
                <a:cubicBezTo>
                  <a:pt x="8246" y="11005"/>
                  <a:pt x="8327" y="10913"/>
                  <a:pt x="8458" y="10790"/>
                </a:cubicBezTo>
                <a:cubicBezTo>
                  <a:pt x="8725" y="10539"/>
                  <a:pt x="9002" y="10230"/>
                  <a:pt x="9302" y="10021"/>
                </a:cubicBezTo>
                <a:cubicBezTo>
                  <a:pt x="9392" y="9958"/>
                  <a:pt x="9505" y="9906"/>
                  <a:pt x="9599" y="9847"/>
                </a:cubicBezTo>
                <a:cubicBezTo>
                  <a:pt x="9592" y="10017"/>
                  <a:pt x="9601" y="10202"/>
                  <a:pt x="9575" y="10368"/>
                </a:cubicBezTo>
                <a:cubicBezTo>
                  <a:pt x="9528" y="10672"/>
                  <a:pt x="9458" y="10951"/>
                  <a:pt x="9451" y="11261"/>
                </a:cubicBezTo>
                <a:cubicBezTo>
                  <a:pt x="9444" y="11583"/>
                  <a:pt x="9451" y="11907"/>
                  <a:pt x="9451" y="12229"/>
                </a:cubicBezTo>
                <a:cubicBezTo>
                  <a:pt x="9500" y="12164"/>
                  <a:pt x="9548" y="12094"/>
                  <a:pt x="9599" y="12030"/>
                </a:cubicBezTo>
                <a:cubicBezTo>
                  <a:pt x="9705" y="11897"/>
                  <a:pt x="9824" y="11795"/>
                  <a:pt x="9947" y="11683"/>
                </a:cubicBezTo>
                <a:cubicBezTo>
                  <a:pt x="9963" y="11666"/>
                  <a:pt x="9980" y="11650"/>
                  <a:pt x="9996" y="11633"/>
                </a:cubicBezTo>
                <a:cubicBezTo>
                  <a:pt x="10001" y="11682"/>
                  <a:pt x="10020" y="11698"/>
                  <a:pt x="10021" y="11757"/>
                </a:cubicBezTo>
                <a:cubicBezTo>
                  <a:pt x="10040" y="12705"/>
                  <a:pt x="10040" y="13669"/>
                  <a:pt x="9996" y="14610"/>
                </a:cubicBezTo>
                <a:cubicBezTo>
                  <a:pt x="9980" y="14955"/>
                  <a:pt x="9958" y="15259"/>
                  <a:pt x="9897" y="15602"/>
                </a:cubicBezTo>
                <a:cubicBezTo>
                  <a:pt x="9864" y="15786"/>
                  <a:pt x="9794" y="15928"/>
                  <a:pt x="9674" y="16073"/>
                </a:cubicBezTo>
                <a:cubicBezTo>
                  <a:pt x="9641" y="16113"/>
                  <a:pt x="9580" y="16203"/>
                  <a:pt x="9525" y="16222"/>
                </a:cubicBezTo>
                <a:cubicBezTo>
                  <a:pt x="9446" y="16250"/>
                  <a:pt x="9448" y="16243"/>
                  <a:pt x="9376" y="16222"/>
                </a:cubicBezTo>
                <a:cubicBezTo>
                  <a:pt x="9260" y="16189"/>
                  <a:pt x="9117" y="16104"/>
                  <a:pt x="9004" y="16049"/>
                </a:cubicBezTo>
                <a:cubicBezTo>
                  <a:pt x="8836" y="15967"/>
                  <a:pt x="8681" y="15842"/>
                  <a:pt x="8533" y="15726"/>
                </a:cubicBezTo>
                <a:cubicBezTo>
                  <a:pt x="8406" y="15626"/>
                  <a:pt x="8297" y="15515"/>
                  <a:pt x="8186" y="15404"/>
                </a:cubicBezTo>
                <a:cubicBezTo>
                  <a:pt x="8078" y="15296"/>
                  <a:pt x="7988" y="15155"/>
                  <a:pt x="7938" y="15007"/>
                </a:cubicBezTo>
                <a:cubicBezTo>
                  <a:pt x="7860" y="14776"/>
                  <a:pt x="7902" y="14423"/>
                  <a:pt x="7938" y="14188"/>
                </a:cubicBezTo>
                <a:cubicBezTo>
                  <a:pt x="7986" y="13871"/>
                  <a:pt x="8154" y="13609"/>
                  <a:pt x="8285" y="13320"/>
                </a:cubicBezTo>
                <a:cubicBezTo>
                  <a:pt x="8342" y="13193"/>
                  <a:pt x="8422" y="13045"/>
                  <a:pt x="8458" y="12923"/>
                </a:cubicBezTo>
                <a:cubicBezTo>
                  <a:pt x="8450" y="12923"/>
                  <a:pt x="8442" y="12923"/>
                  <a:pt x="8434" y="12923"/>
                </a:cubicBezTo>
                <a:cubicBezTo>
                  <a:pt x="8421" y="12945"/>
                  <a:pt x="8403" y="13022"/>
                  <a:pt x="8384" y="13047"/>
                </a:cubicBezTo>
                <a:cubicBezTo>
                  <a:pt x="8275" y="13193"/>
                  <a:pt x="8147" y="13346"/>
                  <a:pt x="8012" y="13469"/>
                </a:cubicBezTo>
                <a:cubicBezTo>
                  <a:pt x="7888" y="13583"/>
                  <a:pt x="7802" y="13595"/>
                  <a:pt x="7665" y="13643"/>
                </a:cubicBezTo>
                <a:cubicBezTo>
                  <a:pt x="7657" y="13643"/>
                  <a:pt x="7648" y="13643"/>
                  <a:pt x="7640" y="13643"/>
                </a:cubicBezTo>
                <a:cubicBezTo>
                  <a:pt x="7657" y="13587"/>
                  <a:pt x="7669" y="13529"/>
                  <a:pt x="7689" y="13469"/>
                </a:cubicBezTo>
                <a:cubicBezTo>
                  <a:pt x="7739" y="13316"/>
                  <a:pt x="7789" y="13141"/>
                  <a:pt x="7863" y="12998"/>
                </a:cubicBezTo>
                <a:cubicBezTo>
                  <a:pt x="8010" y="12714"/>
                  <a:pt x="8181" y="12434"/>
                  <a:pt x="8334" y="12154"/>
                </a:cubicBezTo>
                <a:cubicBezTo>
                  <a:pt x="8368" y="12092"/>
                  <a:pt x="8382" y="11962"/>
                  <a:pt x="8384" y="11956"/>
                </a:cubicBezTo>
                <a:cubicBezTo>
                  <a:pt x="8373" y="11967"/>
                  <a:pt x="8324" y="11990"/>
                  <a:pt x="8310" y="12005"/>
                </a:cubicBezTo>
                <a:cubicBezTo>
                  <a:pt x="8292" y="12025"/>
                  <a:pt x="8288" y="12094"/>
                  <a:pt x="8260" y="12105"/>
                </a:cubicBezTo>
                <a:cubicBezTo>
                  <a:pt x="8221" y="12121"/>
                  <a:pt x="8179" y="12125"/>
                  <a:pt x="8136" y="12129"/>
                </a:cubicBezTo>
                <a:cubicBezTo>
                  <a:pt x="8071" y="12136"/>
                  <a:pt x="8038" y="12124"/>
                  <a:pt x="7987" y="12105"/>
                </a:cubicBezTo>
                <a:cubicBezTo>
                  <a:pt x="7949" y="12091"/>
                  <a:pt x="7933" y="12066"/>
                  <a:pt x="7913" y="12055"/>
                </a:cubicBezTo>
                <a:cubicBezTo>
                  <a:pt x="7886" y="12040"/>
                  <a:pt x="7827" y="12012"/>
                  <a:pt x="7789" y="11981"/>
                </a:cubicBezTo>
                <a:cubicBezTo>
                  <a:pt x="7720" y="11924"/>
                  <a:pt x="7642" y="11834"/>
                  <a:pt x="7590" y="11782"/>
                </a:cubicBezTo>
                <a:cubicBezTo>
                  <a:pt x="7554" y="11746"/>
                  <a:pt x="7542" y="11732"/>
                  <a:pt x="7516" y="11708"/>
                </a:cubicBezTo>
                <a:cubicBezTo>
                  <a:pt x="7475" y="11670"/>
                  <a:pt x="7474" y="11679"/>
                  <a:pt x="7441" y="11633"/>
                </a:cubicBezTo>
                <a:cubicBezTo>
                  <a:pt x="7423" y="11609"/>
                  <a:pt x="7402" y="11624"/>
                  <a:pt x="7392" y="11584"/>
                </a:cubicBezTo>
                <a:cubicBezTo>
                  <a:pt x="7382" y="11546"/>
                  <a:pt x="7431" y="11566"/>
                  <a:pt x="7417" y="11509"/>
                </a:cubicBezTo>
              </a:path>
              <a:path w="18506" h="6946">
                <a:moveTo>
                  <a:pt x="12774" y="11609"/>
                </a:moveTo>
                <a:cubicBezTo>
                  <a:pt x="12814" y="11579"/>
                  <a:pt x="12872" y="11500"/>
                  <a:pt x="12898" y="11485"/>
                </a:cubicBezTo>
                <a:cubicBezTo>
                  <a:pt x="13002" y="11424"/>
                  <a:pt x="13082" y="11369"/>
                  <a:pt x="13196" y="11336"/>
                </a:cubicBezTo>
                <a:cubicBezTo>
                  <a:pt x="13253" y="11319"/>
                  <a:pt x="13437" y="11270"/>
                  <a:pt x="13494" y="11286"/>
                </a:cubicBezTo>
                <a:cubicBezTo>
                  <a:pt x="13580" y="11311"/>
                  <a:pt x="13555" y="11304"/>
                  <a:pt x="13618" y="11361"/>
                </a:cubicBezTo>
                <a:cubicBezTo>
                  <a:pt x="13732" y="11464"/>
                  <a:pt x="13682" y="11698"/>
                  <a:pt x="13692" y="11832"/>
                </a:cubicBezTo>
                <a:cubicBezTo>
                  <a:pt x="13762" y="11743"/>
                  <a:pt x="13839" y="11667"/>
                  <a:pt x="13915" y="11584"/>
                </a:cubicBezTo>
                <a:cubicBezTo>
                  <a:pt x="14048" y="11437"/>
                  <a:pt x="14175" y="11292"/>
                  <a:pt x="14312" y="11162"/>
                </a:cubicBezTo>
                <a:cubicBezTo>
                  <a:pt x="14526" y="10959"/>
                  <a:pt x="14723" y="10808"/>
                  <a:pt x="15007" y="10716"/>
                </a:cubicBezTo>
                <a:cubicBezTo>
                  <a:pt x="15292" y="10624"/>
                  <a:pt x="15552" y="10560"/>
                  <a:pt x="15850" y="10542"/>
                </a:cubicBezTo>
                <a:cubicBezTo>
                  <a:pt x="15959" y="10535"/>
                  <a:pt x="16244" y="10485"/>
                  <a:pt x="16346" y="10567"/>
                </a:cubicBezTo>
                <a:cubicBezTo>
                  <a:pt x="16371" y="10587"/>
                  <a:pt x="16499" y="10946"/>
                  <a:pt x="16520" y="10988"/>
                </a:cubicBezTo>
                <a:cubicBezTo>
                  <a:pt x="16645" y="11241"/>
                  <a:pt x="16756" y="11504"/>
                  <a:pt x="16818" y="11782"/>
                </a:cubicBezTo>
                <a:cubicBezTo>
                  <a:pt x="16845" y="11903"/>
                  <a:pt x="16846" y="12036"/>
                  <a:pt x="16867" y="12154"/>
                </a:cubicBezTo>
                <a:cubicBezTo>
                  <a:pt x="17169" y="12114"/>
                  <a:pt x="17372" y="12069"/>
                  <a:pt x="17661" y="11931"/>
                </a:cubicBezTo>
                <a:cubicBezTo>
                  <a:pt x="17935" y="11799"/>
                  <a:pt x="18183" y="11623"/>
                  <a:pt x="18455" y="11485"/>
                </a:cubicBezTo>
                <a:cubicBezTo>
                  <a:pt x="18694" y="11364"/>
                  <a:pt x="19151" y="11109"/>
                  <a:pt x="19422" y="11112"/>
                </a:cubicBezTo>
                <a:cubicBezTo>
                  <a:pt x="19486" y="11113"/>
                  <a:pt x="19517" y="11126"/>
                  <a:pt x="19546" y="11137"/>
                </a:cubicBezTo>
                <a:cubicBezTo>
                  <a:pt x="19614" y="11163"/>
                  <a:pt x="19643" y="11218"/>
                  <a:pt x="19695" y="11261"/>
                </a:cubicBezTo>
                <a:cubicBezTo>
                  <a:pt x="19826" y="11372"/>
                  <a:pt x="19845" y="11409"/>
                  <a:pt x="19869" y="11584"/>
                </a:cubicBezTo>
                <a:cubicBezTo>
                  <a:pt x="19908" y="11869"/>
                  <a:pt x="19858" y="12198"/>
                  <a:pt x="19819" y="12477"/>
                </a:cubicBezTo>
                <a:cubicBezTo>
                  <a:pt x="19774" y="12802"/>
                  <a:pt x="19739" y="13124"/>
                  <a:pt x="19670" y="13444"/>
                </a:cubicBezTo>
                <a:cubicBezTo>
                  <a:pt x="19587" y="13829"/>
                  <a:pt x="19400" y="14144"/>
                  <a:pt x="19273" y="14511"/>
                </a:cubicBezTo>
                <a:cubicBezTo>
                  <a:pt x="19166" y="14822"/>
                  <a:pt x="19061" y="15181"/>
                  <a:pt x="18827" y="15429"/>
                </a:cubicBezTo>
                <a:cubicBezTo>
                  <a:pt x="18747" y="15514"/>
                  <a:pt x="18745" y="15551"/>
                  <a:pt x="18628" y="15553"/>
                </a:cubicBezTo>
                <a:cubicBezTo>
                  <a:pt x="18547" y="15554"/>
                  <a:pt x="18495" y="15476"/>
                  <a:pt x="18430" y="15429"/>
                </a:cubicBezTo>
                <a:cubicBezTo>
                  <a:pt x="18102" y="15195"/>
                  <a:pt x="17814" y="14873"/>
                  <a:pt x="17487" y="14635"/>
                </a:cubicBezTo>
                <a:cubicBezTo>
                  <a:pt x="17352" y="14537"/>
                  <a:pt x="17208" y="14450"/>
                  <a:pt x="17090" y="14337"/>
                </a:cubicBezTo>
                <a:cubicBezTo>
                  <a:pt x="16987" y="14239"/>
                  <a:pt x="16967" y="14196"/>
                  <a:pt x="16942" y="14064"/>
                </a:cubicBezTo>
                <a:cubicBezTo>
                  <a:pt x="16923" y="13964"/>
                  <a:pt x="16921" y="13814"/>
                  <a:pt x="16917" y="13717"/>
                </a:cubicBezTo>
                <a:cubicBezTo>
                  <a:pt x="16914" y="13626"/>
                  <a:pt x="16919" y="13535"/>
                  <a:pt x="16917" y="13444"/>
                </a:cubicBezTo>
                <a:cubicBezTo>
                  <a:pt x="16873" y="13480"/>
                  <a:pt x="16823" y="13556"/>
                  <a:pt x="16768" y="13593"/>
                </a:cubicBezTo>
                <a:cubicBezTo>
                  <a:pt x="16493" y="13779"/>
                  <a:pt x="16170" y="13904"/>
                  <a:pt x="15900" y="14089"/>
                </a:cubicBezTo>
                <a:cubicBezTo>
                  <a:pt x="15626" y="14276"/>
                  <a:pt x="15382" y="14401"/>
                  <a:pt x="15056" y="14486"/>
                </a:cubicBezTo>
                <a:cubicBezTo>
                  <a:pt x="15015" y="14486"/>
                  <a:pt x="15007" y="14486"/>
                  <a:pt x="14982" y="14486"/>
                </a:cubicBezTo>
                <a:cubicBezTo>
                  <a:pt x="14989" y="14247"/>
                  <a:pt x="15018" y="14005"/>
                  <a:pt x="15007" y="13767"/>
                </a:cubicBezTo>
                <a:cubicBezTo>
                  <a:pt x="15004" y="13695"/>
                  <a:pt x="14987" y="13602"/>
                  <a:pt x="14982" y="13543"/>
                </a:cubicBezTo>
                <a:cubicBezTo>
                  <a:pt x="14425" y="13543"/>
                  <a:pt x="13999" y="13685"/>
                  <a:pt x="13469" y="13841"/>
                </a:cubicBezTo>
                <a:cubicBezTo>
                  <a:pt x="13224" y="13913"/>
                  <a:pt x="12951" y="13932"/>
                  <a:pt x="12700" y="13965"/>
                </a:cubicBezTo>
                <a:cubicBezTo>
                  <a:pt x="12692" y="13965"/>
                  <a:pt x="12683" y="13965"/>
                  <a:pt x="12675" y="13965"/>
                </a:cubicBezTo>
                <a:cubicBezTo>
                  <a:pt x="12675" y="13820"/>
                  <a:pt x="12737" y="13500"/>
                  <a:pt x="12626" y="13419"/>
                </a:cubicBezTo>
                <a:cubicBezTo>
                  <a:pt x="12559" y="13370"/>
                  <a:pt x="12434" y="13397"/>
                  <a:pt x="12353" y="13395"/>
                </a:cubicBezTo>
                <a:cubicBezTo>
                  <a:pt x="12113" y="13388"/>
                  <a:pt x="11890" y="13433"/>
                  <a:pt x="11658" y="13469"/>
                </a:cubicBezTo>
                <a:cubicBezTo>
                  <a:pt x="11545" y="13486"/>
                  <a:pt x="11465" y="13502"/>
                  <a:pt x="11361" y="13519"/>
                </a:cubicBezTo>
                <a:cubicBezTo>
                  <a:pt x="11383" y="13434"/>
                  <a:pt x="11414" y="13365"/>
                  <a:pt x="11435" y="13271"/>
                </a:cubicBezTo>
                <a:cubicBezTo>
                  <a:pt x="11479" y="13073"/>
                  <a:pt x="11480" y="12905"/>
                  <a:pt x="11485" y="12700"/>
                </a:cubicBezTo>
                <a:cubicBezTo>
                  <a:pt x="11488" y="12551"/>
                  <a:pt x="11490" y="12481"/>
                  <a:pt x="11410" y="12378"/>
                </a:cubicBezTo>
                <a:cubicBezTo>
                  <a:pt x="11339" y="12287"/>
                  <a:pt x="11386" y="12309"/>
                  <a:pt x="11286" y="12278"/>
                </a:cubicBezTo>
                <a:cubicBezTo>
                  <a:pt x="11112" y="12224"/>
                  <a:pt x="10893" y="12304"/>
                  <a:pt x="10740" y="12328"/>
                </a:cubicBezTo>
                <a:cubicBezTo>
                  <a:pt x="10765" y="12177"/>
                  <a:pt x="10812" y="12033"/>
                  <a:pt x="10840" y="11881"/>
                </a:cubicBezTo>
                <a:cubicBezTo>
                  <a:pt x="10882" y="11651"/>
                  <a:pt x="10862" y="11496"/>
                  <a:pt x="10964" y="11286"/>
                </a:cubicBezTo>
                <a:cubicBezTo>
                  <a:pt x="11050" y="11109"/>
                  <a:pt x="11177" y="10883"/>
                  <a:pt x="11311" y="10740"/>
                </a:cubicBezTo>
                <a:cubicBezTo>
                  <a:pt x="11379" y="10667"/>
                  <a:pt x="11475" y="10570"/>
                  <a:pt x="11559" y="10517"/>
                </a:cubicBezTo>
                <a:cubicBezTo>
                  <a:pt x="11577" y="10506"/>
                  <a:pt x="11829" y="10393"/>
                  <a:pt x="11857" y="10393"/>
                </a:cubicBezTo>
                <a:cubicBezTo>
                  <a:pt x="11912" y="10393"/>
                  <a:pt x="11952" y="10419"/>
                  <a:pt x="12005" y="10443"/>
                </a:cubicBezTo>
                <a:cubicBezTo>
                  <a:pt x="12082" y="10478"/>
                  <a:pt x="12172" y="10594"/>
                  <a:pt x="12229" y="10666"/>
                </a:cubicBezTo>
                <a:cubicBezTo>
                  <a:pt x="12292" y="10746"/>
                  <a:pt x="12328" y="10852"/>
                  <a:pt x="12378" y="10939"/>
                </a:cubicBezTo>
                <a:cubicBezTo>
                  <a:pt x="12447" y="11058"/>
                  <a:pt x="12433" y="11127"/>
                  <a:pt x="12551" y="11212"/>
                </a:cubicBezTo>
                <a:cubicBezTo>
                  <a:pt x="12585" y="11237"/>
                  <a:pt x="12683" y="11243"/>
                  <a:pt x="12725" y="11261"/>
                </a:cubicBezTo>
                <a:cubicBezTo>
                  <a:pt x="12790" y="11289"/>
                  <a:pt x="12861" y="11292"/>
                  <a:pt x="12923" y="11311"/>
                </a:cubicBezTo>
              </a:path>
              <a:path w="18506" h="6946">
                <a:moveTo>
                  <a:pt x="5730" y="13593"/>
                </a:moveTo>
                <a:cubicBezTo>
                  <a:pt x="5730" y="13461"/>
                  <a:pt x="5749" y="13312"/>
                  <a:pt x="5755" y="13196"/>
                </a:cubicBezTo>
                <a:cubicBezTo>
                  <a:pt x="5762" y="13060"/>
                  <a:pt x="5777" y="12933"/>
                  <a:pt x="5779" y="12799"/>
                </a:cubicBezTo>
                <a:cubicBezTo>
                  <a:pt x="5782" y="12650"/>
                  <a:pt x="5851" y="12201"/>
                  <a:pt x="5755" y="12080"/>
                </a:cubicBezTo>
                <a:cubicBezTo>
                  <a:pt x="5705" y="12017"/>
                  <a:pt x="5682" y="12064"/>
                  <a:pt x="5631" y="12030"/>
                </a:cubicBezTo>
                <a:cubicBezTo>
                  <a:pt x="5557" y="11981"/>
                  <a:pt x="5520" y="11968"/>
                  <a:pt x="5432" y="11956"/>
                </a:cubicBezTo>
                <a:cubicBezTo>
                  <a:pt x="5191" y="11923"/>
                  <a:pt x="4872" y="11941"/>
                  <a:pt x="4663" y="12005"/>
                </a:cubicBezTo>
                <a:cubicBezTo>
                  <a:pt x="4586" y="12029"/>
                  <a:pt x="4517" y="12053"/>
                  <a:pt x="4440" y="12080"/>
                </a:cubicBezTo>
                <a:cubicBezTo>
                  <a:pt x="4386" y="12099"/>
                  <a:pt x="4340" y="12113"/>
                  <a:pt x="4291" y="12129"/>
                </a:cubicBezTo>
                <a:cubicBezTo>
                  <a:pt x="4304" y="12065"/>
                  <a:pt x="4298" y="11993"/>
                  <a:pt x="4316" y="11931"/>
                </a:cubicBezTo>
                <a:cubicBezTo>
                  <a:pt x="4338" y="11856"/>
                  <a:pt x="4415" y="11760"/>
                  <a:pt x="4440" y="11683"/>
                </a:cubicBezTo>
                <a:cubicBezTo>
                  <a:pt x="4484" y="11545"/>
                  <a:pt x="4552" y="11401"/>
                  <a:pt x="4589" y="11261"/>
                </a:cubicBezTo>
                <a:cubicBezTo>
                  <a:pt x="4626" y="11119"/>
                  <a:pt x="4634" y="10965"/>
                  <a:pt x="4638" y="10815"/>
                </a:cubicBezTo>
                <a:cubicBezTo>
                  <a:pt x="4641" y="10708"/>
                  <a:pt x="4638" y="10600"/>
                  <a:pt x="4638" y="10492"/>
                </a:cubicBezTo>
                <a:cubicBezTo>
                  <a:pt x="4546" y="10499"/>
                  <a:pt x="4475" y="10497"/>
                  <a:pt x="4390" y="10517"/>
                </a:cubicBezTo>
                <a:cubicBezTo>
                  <a:pt x="4258" y="10547"/>
                  <a:pt x="4123" y="10571"/>
                  <a:pt x="3994" y="10616"/>
                </a:cubicBezTo>
                <a:cubicBezTo>
                  <a:pt x="3924" y="10640"/>
                  <a:pt x="3788" y="10670"/>
                  <a:pt x="3696" y="10716"/>
                </a:cubicBezTo>
                <a:cubicBezTo>
                  <a:pt x="3635" y="10746"/>
                  <a:pt x="3576" y="10789"/>
                  <a:pt x="3522" y="10815"/>
                </a:cubicBezTo>
                <a:cubicBezTo>
                  <a:pt x="3494" y="10843"/>
                  <a:pt x="3481" y="10852"/>
                  <a:pt x="3448" y="10840"/>
                </a:cubicBezTo>
                <a:cubicBezTo>
                  <a:pt x="3468" y="10807"/>
                  <a:pt x="3466" y="10779"/>
                  <a:pt x="3497" y="10740"/>
                </a:cubicBezTo>
                <a:cubicBezTo>
                  <a:pt x="3574" y="10643"/>
                  <a:pt x="3647" y="10543"/>
                  <a:pt x="3721" y="10443"/>
                </a:cubicBezTo>
                <a:cubicBezTo>
                  <a:pt x="3836" y="10288"/>
                  <a:pt x="3976" y="10122"/>
                  <a:pt x="4068" y="9947"/>
                </a:cubicBezTo>
                <a:cubicBezTo>
                  <a:pt x="4164" y="9763"/>
                  <a:pt x="4253" y="9586"/>
                  <a:pt x="4316" y="9401"/>
                </a:cubicBezTo>
                <a:cubicBezTo>
                  <a:pt x="4340" y="9353"/>
                  <a:pt x="4348" y="9339"/>
                  <a:pt x="4341" y="9302"/>
                </a:cubicBezTo>
                <a:cubicBezTo>
                  <a:pt x="4231" y="9345"/>
                  <a:pt x="4194" y="9339"/>
                  <a:pt x="4068" y="9426"/>
                </a:cubicBezTo>
                <a:cubicBezTo>
                  <a:pt x="3792" y="9616"/>
                  <a:pt x="3565" y="9935"/>
                  <a:pt x="3324" y="10170"/>
                </a:cubicBezTo>
                <a:cubicBezTo>
                  <a:pt x="3075" y="10413"/>
                  <a:pt x="2890" y="10670"/>
                  <a:pt x="2679" y="10939"/>
                </a:cubicBezTo>
                <a:cubicBezTo>
                  <a:pt x="2615" y="11020"/>
                  <a:pt x="2536" y="11109"/>
                  <a:pt x="2480" y="11187"/>
                </a:cubicBezTo>
                <a:cubicBezTo>
                  <a:pt x="2506" y="11131"/>
                  <a:pt x="2519" y="11076"/>
                  <a:pt x="2555" y="11013"/>
                </a:cubicBezTo>
                <a:cubicBezTo>
                  <a:pt x="2645" y="10856"/>
                  <a:pt x="2750" y="10714"/>
                  <a:pt x="2853" y="10567"/>
                </a:cubicBezTo>
                <a:cubicBezTo>
                  <a:pt x="2951" y="10427"/>
                  <a:pt x="3063" y="10279"/>
                  <a:pt x="3125" y="10120"/>
                </a:cubicBezTo>
                <a:cubicBezTo>
                  <a:pt x="3155" y="10043"/>
                  <a:pt x="3154" y="9950"/>
                  <a:pt x="3175" y="9872"/>
                </a:cubicBezTo>
                <a:cubicBezTo>
                  <a:pt x="3057" y="9941"/>
                  <a:pt x="3038" y="9962"/>
                  <a:pt x="2927" y="10071"/>
                </a:cubicBezTo>
                <a:cubicBezTo>
                  <a:pt x="2349" y="10636"/>
                  <a:pt x="1945" y="11241"/>
                  <a:pt x="1538" y="11931"/>
                </a:cubicBezTo>
                <a:cubicBezTo>
                  <a:pt x="1441" y="12096"/>
                  <a:pt x="1399" y="12305"/>
                  <a:pt x="1364" y="12477"/>
                </a:cubicBezTo>
                <a:cubicBezTo>
                  <a:pt x="1356" y="12517"/>
                  <a:pt x="1377" y="12463"/>
                  <a:pt x="1364" y="12502"/>
                </a:cubicBezTo>
                <a:cubicBezTo>
                  <a:pt x="1393" y="12479"/>
                  <a:pt x="1443" y="12439"/>
                  <a:pt x="1488" y="12402"/>
                </a:cubicBezTo>
                <a:cubicBezTo>
                  <a:pt x="1705" y="12226"/>
                  <a:pt x="1940" y="12121"/>
                  <a:pt x="2208" y="12005"/>
                </a:cubicBezTo>
                <a:cubicBezTo>
                  <a:pt x="2594" y="11838"/>
                  <a:pt x="2912" y="11618"/>
                  <a:pt x="3274" y="11410"/>
                </a:cubicBezTo>
                <a:cubicBezTo>
                  <a:pt x="3445" y="11312"/>
                  <a:pt x="3619" y="11225"/>
                  <a:pt x="3795" y="11137"/>
                </a:cubicBezTo>
                <a:cubicBezTo>
                  <a:pt x="3750" y="11212"/>
                  <a:pt x="3690" y="11295"/>
                  <a:pt x="3646" y="11385"/>
                </a:cubicBezTo>
                <a:cubicBezTo>
                  <a:pt x="3524" y="11635"/>
                  <a:pt x="3473" y="11919"/>
                  <a:pt x="3373" y="12179"/>
                </a:cubicBezTo>
                <a:cubicBezTo>
                  <a:pt x="3305" y="12356"/>
                  <a:pt x="3281" y="12490"/>
                  <a:pt x="3274" y="12675"/>
                </a:cubicBezTo>
                <a:cubicBezTo>
                  <a:pt x="3554" y="12675"/>
                  <a:pt x="3824" y="12666"/>
                  <a:pt x="4093" y="12626"/>
                </a:cubicBezTo>
                <a:cubicBezTo>
                  <a:pt x="4121" y="12622"/>
                  <a:pt x="4114" y="12631"/>
                  <a:pt x="4142" y="12626"/>
                </a:cubicBezTo>
                <a:cubicBezTo>
                  <a:pt x="4099" y="12716"/>
                  <a:pt x="4046" y="12823"/>
                  <a:pt x="4018" y="12948"/>
                </a:cubicBezTo>
                <a:cubicBezTo>
                  <a:pt x="3959" y="13209"/>
                  <a:pt x="3797" y="13432"/>
                  <a:pt x="3770" y="13692"/>
                </a:cubicBezTo>
                <a:cubicBezTo>
                  <a:pt x="3762" y="13773"/>
                  <a:pt x="3754" y="13864"/>
                  <a:pt x="3746" y="13940"/>
                </a:cubicBezTo>
                <a:cubicBezTo>
                  <a:pt x="3851" y="13823"/>
                  <a:pt x="3963" y="13725"/>
                  <a:pt x="4068" y="13618"/>
                </a:cubicBezTo>
                <a:cubicBezTo>
                  <a:pt x="4153" y="13531"/>
                  <a:pt x="4234" y="13426"/>
                  <a:pt x="4316" y="13345"/>
                </a:cubicBezTo>
                <a:cubicBezTo>
                  <a:pt x="4384" y="13279"/>
                  <a:pt x="4381" y="13251"/>
                  <a:pt x="4465" y="13196"/>
                </a:cubicBezTo>
                <a:cubicBezTo>
                  <a:pt x="4706" y="13039"/>
                  <a:pt x="4952" y="12909"/>
                  <a:pt x="5209" y="12774"/>
                </a:cubicBezTo>
                <a:cubicBezTo>
                  <a:pt x="5526" y="12607"/>
                  <a:pt x="5846" y="12451"/>
                  <a:pt x="6152" y="12278"/>
                </a:cubicBezTo>
                <a:cubicBezTo>
                  <a:pt x="6186" y="12259"/>
                  <a:pt x="6260" y="12191"/>
                  <a:pt x="6276" y="12179"/>
                </a:cubicBezTo>
                <a:cubicBezTo>
                  <a:pt x="6234" y="12271"/>
                  <a:pt x="6198" y="12385"/>
                  <a:pt x="6152" y="12477"/>
                </a:cubicBezTo>
                <a:cubicBezTo>
                  <a:pt x="6047" y="12686"/>
                  <a:pt x="5930" y="12925"/>
                  <a:pt x="5804" y="13122"/>
                </a:cubicBezTo>
                <a:cubicBezTo>
                  <a:pt x="5723" y="13249"/>
                  <a:pt x="5603" y="13342"/>
                  <a:pt x="5531" y="13469"/>
                </a:cubicBezTo>
                <a:cubicBezTo>
                  <a:pt x="5514" y="13499"/>
                  <a:pt x="5517" y="13527"/>
                  <a:pt x="5507" y="13543"/>
                </a:cubicBezTo>
                <a:cubicBezTo>
                  <a:pt x="5545" y="13383"/>
                  <a:pt x="5581" y="13279"/>
                  <a:pt x="5655" y="13122"/>
                </a:cubicBezTo>
                <a:cubicBezTo>
                  <a:pt x="5731" y="12960"/>
                  <a:pt x="5796" y="12791"/>
                  <a:pt x="5854" y="12626"/>
                </a:cubicBezTo>
                <a:cubicBezTo>
                  <a:pt x="5874" y="12585"/>
                  <a:pt x="5883" y="12579"/>
                  <a:pt x="5879" y="1255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not turn it back.                                 In the morning I looked out the window I saw a pokemon ,it is a Pickachu!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2000" y="5133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201" y="14263"/>
                </a:moveTo>
                <a:lnTo>
                  <a:pt x="6201" y="14263"/>
                </a:ln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Pinplup COOOL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Grotll COOL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38:46Z</dcterms:created>
  <dc:creator>dharan albuoy</dc:creator>
  <dc:description/>
  <dc:language>en-US</dc:language>
  <cp:lastModifiedBy>dharan albuoy</cp:lastModifiedBy>
  <dcterms:modified xsi:type="dcterms:W3CDTF">2010-11-04T16:29:11Z</dcterms:modified>
  <cp:revision>13</cp:revision>
  <dc:subject/>
  <dc:title>Tyler</dc:title>
</cp:coreProperties>
</file>